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76C7-C575-41D5-9BF1-7A92EDD201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A00A-B076-461D-8DDB-7FC3B4DD1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FD39-F934-4F8D-A4A5-650BF02042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DD87-1B85-4020-8275-406E83D5C9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A5C7-AFA1-4433-8007-090966720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8AD3-111F-405C-8790-1BB281DFF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89C8-4D62-4ED5-B580-1AD3B4DFEB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7664-2067-42E3-87C8-A5CE945FBA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ABE5-5819-46E0-BF1B-8A32B1A6A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EFEA-79F0-4195-AE64-4CC25AF029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BE77-FB45-4081-9B44-33B36789F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E765-6764-44FF-A678-D338221CA5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A0EB-F932-4671-8EC4-A2A1C075DE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C747-70C9-4C6E-A005-9C5295694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A91A-6DD8-4196-B1E8-8F86B985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21AA-87B7-462B-BA0D-6C6B509A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9CA4-3070-41A1-B692-0E1B8840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B735-2352-43EA-94C2-CFF4C5FD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1494-4336-4119-B5FD-94B6F0D4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7859-3731-4D38-89C5-DF34F598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E908-DAC6-4F62-A6CC-5EE866CC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40E7-489D-4D21-90A9-1726B0E0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7144-41BF-4C8D-8616-DA4AC0C7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34B8-3FDA-49E9-8F03-B32201EB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6D8D-910F-4766-AFA6-F474BEE5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F2D7-E451-4FC7-AC4C-B33BAB1D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E948-DB9B-4B5C-8935-EA30EEBDC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federalspace.ru/main.php?id=167" TargetMode="External"/><Relationship Id="rId3" Type="http://schemas.openxmlformats.org/officeDocument/2006/relationships/hyperlink" Target="http://www.federalspace.ru/main.php?id=167" TargetMode="External"/><Relationship Id="rId4" Type="http://schemas.openxmlformats.org/officeDocument/2006/relationships/hyperlink" Target="http://www.federalspace.ru/main.php?id=167" TargetMode="External"/><Relationship Id="rId5" Type="http://schemas.openxmlformats.org/officeDocument/2006/relationships/hyperlink" Target="http://www.federalspace.ru/main.php?id=167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111\Рабочий стол\GE016_350A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mbria"/>
              </a:rPr>
              <a:t>Советские и Российские космонав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2876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Гугнина Ю.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МБОУ СОШ № 64 г. Новосибир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http://www.federalspace.ru/img/docs/savitskaya_t.jpg"/>
          <p:cNvPicPr/>
          <p:nvPr/>
        </p:nvPicPr>
        <p:blipFill>
          <a:blip r:embed="rId2"/>
          <a:stretch/>
        </p:blipFill>
        <p:spPr>
          <a:xfrm>
            <a:off x="428760" y="214200"/>
            <a:ext cx="1785960" cy="2643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250920" y="3068640"/>
            <a:ext cx="864396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19 по 27 августа 1982 года в качестве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космонавта-исследователя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КК «Союз Т-7» / «Союз Т-5» и станции ДОС «Салют-7» вместе с Л.Поповым и А.Серебровым по программе второй экспедиции посещения (ЭП-2) первого основного экипажа (ЭО-1) станции «Салют-7» (А.Березовой - В.Лебедев).  Продолжительность полета составила 7 суток 21 час 52 минуты 24 секун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2357280" y="500040"/>
            <a:ext cx="657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Савицкая Светлана Евгень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ась 8 августа 1948 года в городе Москва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" descr="http://www.federalspace.ru/img/docs/titov_t.jpg"/>
          <p:cNvPicPr/>
          <p:nvPr/>
        </p:nvPicPr>
        <p:blipFill>
          <a:blip r:embed="rId2"/>
          <a:stretch/>
        </p:blipFill>
        <p:spPr>
          <a:xfrm>
            <a:off x="214200" y="214200"/>
            <a:ext cx="1857600" cy="235764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179280" y="2997360"/>
            <a:ext cx="871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т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20 по 22 апреля 1983 года в качестве командира КК «Союз Т-8», вместе с Г.Стрекаловым и А.Серебровым. Планировалась длительная работа на борту ДОС «Салют-7» по программе 2-й основной экспедиции (ЭО-2). Однако стыковку выполнить не удалось из-за не исправности антенны системы сближения и стыковки «Игла» на корабле. Продолжительность полета составила 2 суток 00 часов 17 минут 48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2429280" y="642960"/>
            <a:ext cx="63666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Титов Владимир Георги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ся 1 января 1947 года в городе Сретенс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Читинской области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" descr="http://www.federalspace.ru/img/docs/poleshchuk_t.jpg"/>
          <p:cNvPicPr/>
          <p:nvPr/>
        </p:nvPicPr>
        <p:blipFill>
          <a:blip r:embed="rId2"/>
          <a:stretch/>
        </p:blipFill>
        <p:spPr>
          <a:xfrm>
            <a:off x="500040" y="428760"/>
            <a:ext cx="2143080" cy="2571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2714760" y="438480"/>
            <a:ext cx="5572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  <a:ea typeface="Times New Roman"/>
              </a:rPr>
              <a:t>Полещук Александр Фед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85840" y="2847960"/>
            <a:ext cx="8643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Родился 30 октября 1953 года в городе Черемхово Иркутской области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 24 января по 22 июля 1993 года в качестве бортинженера ТК «Союз ТМ-16» и ОК «Мир» по программе ЭО-13 (13-й основной экспедиции) вместе с Г.Манаковым. Стартовал вместе с Г.Манаковым. Посадку совершил вместе с Г.Манаковым и Жан-Пьером Эньере (Франция). Во время полета совершил два выхода в открытый космос: 19.04.1993 - продолжительностью 5 часов 25 минут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18.06.1993 - продолжительностью 4 часа 33 минуты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одолжительность полета составила 179 суток 00 часов 43 минуты 46 секунд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79280" y="2637000"/>
            <a:ext cx="8643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1 июля по 4 ноября 1994 года в качестве бортинженера ТК «Союз ТМ-19» и ОК «Мир» по программе ЭО-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Во время полета совершил два выхода в открытый космос: 09.09.1994 - продолжительностью 5 часов 6 минут.13.09.1994 - продолжительностью 6 часов 1 минута. Продолжительность полета составила 125 суток 22 часа 53 минуты 36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3" descr="http://www.federalspace.ru/img/docs/musabaev_t.jpg"/>
          <p:cNvPicPr/>
          <p:nvPr/>
        </p:nvPicPr>
        <p:blipFill>
          <a:blip r:embed="rId2"/>
          <a:stretch/>
        </p:blipFill>
        <p:spPr>
          <a:xfrm>
            <a:off x="285840" y="285840"/>
            <a:ext cx="1928880" cy="200016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357280" y="357120"/>
            <a:ext cx="657252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Мусабаев Талгат Амангельдие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одился 7 января 1951 года в селе Каргалы Джамбульского района Алма-Атинской области Казахской СС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714240" y="928800"/>
            <a:ext cx="807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180000" y="928800"/>
            <a:ext cx="853524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спользованная литература находится на этом сайт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mbria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mbria"/>
                <a:hlinkClick r:id="rId3"/>
              </a:rPr>
              <a:t>:/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mbria"/>
                <a:hlinkClick r:id="rId4"/>
              </a:rPr>
              <a:t>www.federalspace.ru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mbria"/>
                <a:hlinkClick r:id="rId5"/>
              </a:rPr>
              <a:t>/main.php?id=16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http://www.federalspace.ru/img/docs/gagarin_t.jpg"/>
          <p:cNvPicPr/>
          <p:nvPr/>
        </p:nvPicPr>
        <p:blipFill>
          <a:blip r:embed="rId2"/>
          <a:stretch/>
        </p:blipFill>
        <p:spPr>
          <a:xfrm>
            <a:off x="857160" y="357120"/>
            <a:ext cx="2997360" cy="364824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250920" y="3860640"/>
            <a:ext cx="864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Родился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9 марта 1934 года в селе Клушино Гжатского (ныне - Гагаринского) района Смоленской области, РСФСР (Росс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3924360" y="836640"/>
            <a:ext cx="482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Гагари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Юрий Алекс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" descr="http://www.federalspace.ru/img/docs/titov_g_t.jpg"/>
          <p:cNvPicPr/>
          <p:nvPr/>
        </p:nvPicPr>
        <p:blipFill>
          <a:blip r:embed="rId2"/>
          <a:stretch/>
        </p:blipFill>
        <p:spPr>
          <a:xfrm>
            <a:off x="285840" y="357120"/>
            <a:ext cx="2214360" cy="278604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285840" y="3214800"/>
            <a:ext cx="8572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одился 11 сентября 1935 года в селе Верхнее Жилино Косихинского района Алтайского края, РСФС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 6 по 7 августа 1961 года в качестве пилота КК «Восток-2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зывной: «Орел». Выполнил первый в мире космический полет длительностью более суток. Продолжительность полета составила 1 сутки 01 час 18 мину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3214800" y="428760"/>
            <a:ext cx="521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Тит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Герман Степанови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http://www.federalspace.ru/img/docs/tereshkova_t.jpg"/>
          <p:cNvPicPr/>
          <p:nvPr/>
        </p:nvPicPr>
        <p:blipFill>
          <a:blip r:embed="rId2"/>
          <a:stretch/>
        </p:blipFill>
        <p:spPr>
          <a:xfrm>
            <a:off x="214200" y="214200"/>
            <a:ext cx="1928880" cy="221472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214200" y="2714760"/>
            <a:ext cx="8643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Космический полет совершила 16 - 19 июня 1963 года в качестве командира КК «Восток-6» по программе группового полета с кораблем «Восток-5», пилотируемым Валерием Быковским. Продолжительность полета составила 2 суток 22 часа 50 мину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В 1965 - 1966 годах проходила подготовку в группе к полету на КК «Восход». В 1978 году, после возобновления идеи женского полета, прошла ГМК и получила допуск к специальной подготовк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Отчислена из отряда космонавтов в связи с достижением предельного возраста приказом МО от 30 апреля 1997 г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2357280" y="428760"/>
            <a:ext cx="650088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Терешко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Валентина Владимиро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одилась 6 марта 1937 года в деревне Масленников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утаевского района Ярославской области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http://www.federalspace.ru/img/docs/leonov_t.jpg"/>
          <p:cNvPicPr/>
          <p:nvPr/>
        </p:nvPicPr>
        <p:blipFill>
          <a:blip r:embed="rId2"/>
          <a:stretch/>
        </p:blipFill>
        <p:spPr>
          <a:xfrm>
            <a:off x="357120" y="285840"/>
            <a:ext cx="1571760" cy="1643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285840" y="1928880"/>
            <a:ext cx="8572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одился 30 мая 1934 года в селе Листвянка Тисульского района Кемеровской области, РСФС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C 18 по 19 марта 1965 года в качестве второго пилот КК «Восход-2», вместе с Павлом Беляевым. В ходе полета совершил первый в мире выход в открытое космическое пространство продолжительностью 23 минуты 41 секунда (из них 12 минут 09 секунд вне корабля, удалялся от корабля на 5,35 метра). При выходе возникли несколько нештатных ситуаций, рассказ о которых самого Леонова можно прочитать в приложении. Продолжительность полета составила 1 сутки 02 часа 02 минуты 17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2499120" y="357120"/>
            <a:ext cx="540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mbria"/>
              </a:rPr>
              <a:t>Леонов Алексей Архип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http://www.federalspace.ru/img/docs/grechko_t.jpg"/>
          <p:cNvPicPr/>
          <p:nvPr/>
        </p:nvPicPr>
        <p:blipFill>
          <a:blip r:embed="rId2"/>
          <a:stretch/>
        </p:blipFill>
        <p:spPr>
          <a:xfrm>
            <a:off x="285840" y="214200"/>
            <a:ext cx="2071440" cy="2500560"/>
          </a:xfrm>
          <a:prstGeom prst="rect">
            <a:avLst/>
          </a:prstGeom>
          <a:ln w="0">
            <a:noFill/>
          </a:ln>
        </p:spPr>
      </p:pic>
      <p:sp>
        <p:nvSpPr>
          <p:cNvPr id="69" name="TextBox 9"/>
          <p:cNvSpPr/>
          <p:nvPr/>
        </p:nvSpPr>
        <p:spPr>
          <a:xfrm>
            <a:off x="250920" y="306864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11 января по 9 февраля 1975 года в качестве бортинженера КК «Союз-17» и первой основной экспедиции на ДОС-4 «Салют-4», вместе с А.Губаревым. Позывной: «Зенит-2». Продолжительность полета составила 29 суток 13 часов 19 минут 45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2129040" y="357120"/>
            <a:ext cx="67629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mbria"/>
              </a:rPr>
              <a:t>Гречко Георгий Михайл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ся 25 мая 1931 года в городе Ленинград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http://www.federalspace.ru/img/docs/rumin_t.jpg"/>
          <p:cNvPicPr/>
          <p:nvPr/>
        </p:nvPicPr>
        <p:blipFill>
          <a:blip r:embed="rId2"/>
          <a:stretch/>
        </p:blipFill>
        <p:spPr>
          <a:xfrm>
            <a:off x="500040" y="285840"/>
            <a:ext cx="1571760" cy="192888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468360" y="2781360"/>
            <a:ext cx="8211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 С 9 по 11 октября 1977 года в качестве бортинженера КК «Союз-25», вместе с В.Коваленком. Программа 96-суточного полета была не выполнена, так как стыковку с ОС не удалось осуществить ни в автоматическом, ни в ручном режимах. Продолжительность полета составила 2 суток 00 часов 44 минуты 45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2286000" y="428760"/>
            <a:ext cx="635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Рюмин Валерий Викт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ся 16 августа 1939 года в горо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Комсомольск-на-Амуре Хабаровского края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http://www.federalspace.ru/img/docs/liahov_t.jpg"/>
          <p:cNvPicPr/>
          <p:nvPr/>
        </p:nvPicPr>
        <p:blipFill>
          <a:blip r:embed="rId2"/>
          <a:stretch/>
        </p:blipFill>
        <p:spPr>
          <a:xfrm>
            <a:off x="357120" y="285840"/>
            <a:ext cx="1785960" cy="200016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179280" y="2565360"/>
            <a:ext cx="8715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25 февраля по 19 августа 1979 года в качестве командира 3-й основной экспедиции на ДОС «Салют-6», вместе с В.Рюминым. Во время полёта выполнил внеплановый выход в открытый космос для отделения зацепившейся за конструкцию станции антенны радиотелескопа КРТ-10: 15.08.1979 продолжительностью 1 час 23 минут. Продолжительность полета составила 175 суток 00 часов 35 минут 37 секун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2428920" y="357120"/>
            <a:ext cx="636912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Ляхов Владимир Афанас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одился 20 июля 1941 года в городе Антраци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орошиловградской (Луганской) области, УС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" descr="http://www.federalspace.ru/img/docs/popov_t.jpg"/>
          <p:cNvPicPr/>
          <p:nvPr/>
        </p:nvPicPr>
        <p:blipFill>
          <a:blip r:embed="rId2"/>
          <a:stretch/>
        </p:blipFill>
        <p:spPr>
          <a:xfrm>
            <a:off x="285840" y="214200"/>
            <a:ext cx="1785960" cy="2143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324000" y="2565360"/>
            <a:ext cx="850104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9 апреля по 11 октября 1980 года в качестве командира 4-й основной экспедиции (ЭО-4) на ДОС «Салют-6», вместе с Валерием Рюминым. Стартовал на ТК «Союз-35», посадка на ТК «Союз-37». Продолжительность полета составила 184 суток 20 часов 11 минут 35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28920" y="285840"/>
            <a:ext cx="635796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mbria"/>
              </a:rPr>
              <a:t>Попов Леонид Иван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ся 31 августа 1945 года в городе Александр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Кировоградской области Украинской СС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7:34:48Z</dcterms:created>
  <dc:creator>111</dc:creator>
  <dc:description/>
  <dc:language>en-US</dc:language>
  <cp:lastModifiedBy>Customer</cp:lastModifiedBy>
  <dcterms:modified xsi:type="dcterms:W3CDTF">2011-04-07T02:06:00Z</dcterms:modified>
  <cp:revision>27</cp:revision>
  <dc:subject/>
  <dc:title>Советские и Российские космонавты</dc:title>
</cp:coreProperties>
</file>